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55979"/>
        <c:axId val="29354719"/>
      </c:barChart>
      <c:catAx>
        <c:axId val="803559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54719"/>
        <c:crosses val="autoZero"/>
        <c:auto val="1"/>
        <c:lblAlgn val="ctr"/>
        <c:lblOffset val="100"/>
        <c:noMultiLvlLbl val="0"/>
      </c:catAx>
      <c:valAx>
        <c:axId val="29354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559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7FAC-3570-4EDF-B9A1-2F6CC1F6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35D-238E-4972-AEA6-DB109484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F4C-8698-43C9-8ABF-BC28EDF6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1FEF-0E4B-43CF-A09B-211E63B2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83A0-F52B-43C9-A542-57877438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C948-9DED-4A56-AD18-5C37A513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1870-7809-4299-B34F-F3DA2A85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971E-E4D8-4F2B-B18B-4CDFCFAC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FBF-F1D7-4CCF-8507-D55C9B22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DFF-56CA-4D9F-B45B-A509A8A2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924-81CA-4DE7-AF14-054C9E0F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1DD-02C6-4B33-92C5-DA051A34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6C702-ADB5-4734-8D81-36E7A58C65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