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09176"/>
        <c:axId val="46255181"/>
      </c:barChart>
      <c:catAx>
        <c:axId val="96309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55181"/>
        <c:crosses val="autoZero"/>
        <c:auto val="1"/>
        <c:lblAlgn val="ctr"/>
        <c:lblOffset val="100"/>
        <c:noMultiLvlLbl val="0"/>
      </c:catAx>
      <c:valAx>
        <c:axId val="46255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09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1E9-E2FD-4343-9410-575A95C1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FD6-6C74-4CEE-B454-1D65F892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D7B-EBE6-4D5E-9BC9-5F25AAC4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705-F3C3-4F69-9F31-A7CA1BDC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54E-1C77-42C2-A447-1EA6462A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0E3-2670-4B40-B3FB-A2EF4D87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DDF-2703-4BDA-9204-73D5F86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E0A-1D24-4273-A56D-445E2E29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78B-28D0-424F-B922-3595690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F76-2BBD-439B-9737-297F88B9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EA8-D8D5-475E-AF7F-1AE7603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F8B-1E53-4C4F-8713-861A796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133F9-2C71-4C18-AD1C-A2646813E2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