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94035"/>
        <c:axId val="95771432"/>
      </c:barChart>
      <c:catAx>
        <c:axId val="907940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1432"/>
        <c:crosses val="autoZero"/>
        <c:auto val="1"/>
        <c:lblAlgn val="ctr"/>
        <c:lblOffset val="100"/>
        <c:noMultiLvlLbl val="0"/>
      </c:catAx>
      <c:valAx>
        <c:axId val="95771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940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B43-4F54-4F6C-82D2-7A18D2B9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89E-4408-4E98-AC8F-32F8B3A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2CB-7BB8-4C64-9F9B-B2827DB1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746-E5EA-49A9-9DD7-76028BBC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6C8-E8AD-4435-894B-3341A69A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B32-1558-4CA9-B120-84542B69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20A-E169-4DBD-9C52-2677CD00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566-88B6-42C7-8292-FFB48281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264A-3DB4-475B-BD77-DF4BD1A1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5CA-AF17-4637-8A0F-D6EFA848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9CB-48C5-4A4D-A7DF-45B90B2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57C5-0D40-41C0-986A-E3A2837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F88B8-655A-4D7A-AB01-CECE0970A72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