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54557"/>
        <c:axId val="4743636"/>
      </c:barChart>
      <c:catAx>
        <c:axId val="23354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3636"/>
        <c:crosses val="autoZero"/>
        <c:auto val="1"/>
        <c:lblAlgn val="ctr"/>
        <c:lblOffset val="100"/>
        <c:noMultiLvlLbl val="0"/>
      </c:catAx>
      <c:valAx>
        <c:axId val="4743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54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7D4-A531-4E4A-A284-7B6CD934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6E5-8D3D-40A7-8CD3-21873D4F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627-F1F8-4683-BA13-FA5047F6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F5F-3CDD-4856-882A-FCCABA4A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6EE-44C3-4202-B8DF-1C205EEB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C17-C892-4B7A-9D92-40E11F1C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053-3AB2-484A-A0CA-E979AEA2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570-9977-4068-AFF4-9F285305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619-615B-4AE8-A070-E30DF4DC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B58-63DE-41BE-8D41-963F2A60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FFB-4DEE-470E-ADF1-2BE8860F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942-B498-4535-ABBA-7683A77E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665F7-D778-4DE2-87A1-9EA95D0678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