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441229"/>
        <c:axId val="52606063"/>
      </c:barChart>
      <c:catAx>
        <c:axId val="894412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06063"/>
        <c:crosses val="autoZero"/>
        <c:auto val="1"/>
        <c:lblAlgn val="ctr"/>
        <c:lblOffset val="100"/>
        <c:noMultiLvlLbl val="0"/>
      </c:catAx>
      <c:valAx>
        <c:axId val="526060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412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9208-B7AC-47D0-A8C9-4E42776C9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26E6-A2C7-41D3-9C50-B8D0D6F3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38C4-F9EB-41E1-86EA-347B59384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4781-6ED8-479B-B944-4E2E9E4E3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1F8C-66CB-4C19-9331-0CFFB2E5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491C-8D68-43CB-8DD5-3E89BDFE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C73D-39FD-41CE-98C1-9E21012E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A361-C9EA-4DC3-8DC9-A088B2E0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57A6-4AF8-4988-A1CC-E3D2FD85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7E16-720D-4F82-81B5-7957C71B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DF55-FF8B-4F38-8A29-D042B9D0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392A-87F3-4EE1-9F4C-478BE3DC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BAA4A-DFA4-4004-BE95-FC0AB4DF71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