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6962"/>
        <c:axId val="96068769"/>
      </c:barChart>
      <c:catAx>
        <c:axId val="9896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68769"/>
        <c:crosses val="autoZero"/>
        <c:auto val="1"/>
        <c:lblAlgn val="ctr"/>
        <c:lblOffset val="100"/>
        <c:noMultiLvlLbl val="0"/>
      </c:catAx>
      <c:valAx>
        <c:axId val="96068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6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1ED-41B2-412E-A25C-D60B4AA2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1EF-9F44-4942-8718-8F3EF8DB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F76-27AC-49D5-AE52-A3AD6E6A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A0C-B08D-4353-9F57-D1F10589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E7A-243A-4ED7-933D-F2E88DC2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702-954E-49C8-BB32-8C12527D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EB4-02B9-4D75-A382-0215C7F6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A73-AB6D-40CA-BD34-57832140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243-2D13-4048-8EA2-50BF2A54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291-73A9-4A1A-BC25-68A7E4F0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4B3-F12F-4B19-8D15-6A16EA5D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4EA-DA31-430F-ABBC-1AB14B5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C995D-0A48-4D1E-B677-BD6341A23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