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67741"/>
        <c:axId val="91034789"/>
      </c:barChart>
      <c:catAx>
        <c:axId val="80967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34789"/>
        <c:crosses val="autoZero"/>
        <c:auto val="1"/>
        <c:lblAlgn val="ctr"/>
        <c:lblOffset val="100"/>
        <c:noMultiLvlLbl val="0"/>
      </c:catAx>
      <c:valAx>
        <c:axId val="91034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67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062-9358-4680-BE95-994FBDF0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F38-4AF0-474B-A6C9-DFBEA1B0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4D4-954A-4D9E-988D-2B2C553A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901-DE30-4DBC-90E5-B2121C49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624-9C74-4047-999B-96E8B073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1D0-3128-4601-A8C3-8CFDA214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AD9-915B-4FF4-A56B-458152F4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6BF-9BDF-4DBC-AEA6-F4D6A128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666-3BBC-4A17-8642-63421CA5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4A0-2599-467C-A455-A485D0B4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2C2-B0CC-4E24-9D18-D4BCDADA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184-EE9B-4C51-9F67-195B20CA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55557-9FBF-422D-AE58-F0BCC4BF9E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