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66868"/>
        <c:axId val="63655599"/>
      </c:barChart>
      <c:catAx>
        <c:axId val="71066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5599"/>
        <c:crosses val="autoZero"/>
        <c:auto val="1"/>
        <c:lblAlgn val="ctr"/>
        <c:lblOffset val="100"/>
        <c:noMultiLvlLbl val="0"/>
      </c:catAx>
      <c:valAx>
        <c:axId val="63655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6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ED3-3026-41EC-9BF7-17C72F15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A04-72C5-4117-BCBB-260A57B7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053-A203-4F2C-8FFA-21E572F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630-2AA8-455A-BA44-B02F3DF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12-2C14-4C9C-8DAB-BAD2373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32C-39C0-488A-BB48-290018D4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2E2-3A1A-4CAC-B277-66C30DC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776-0344-4C6E-A9CB-C0DCF9B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822-38C8-4C5D-BABD-1ACE565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4B7-0CBA-4A88-9A94-3ACD320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D69-D6FC-4296-8976-1A16FA33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39A-2BDD-4351-A90E-D8314AF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5095D-756B-4E48-83D1-9802C60AE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