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70943"/>
        <c:axId val="174558"/>
      </c:barChart>
      <c:catAx>
        <c:axId val="53270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558"/>
        <c:crosses val="autoZero"/>
        <c:auto val="1"/>
        <c:lblAlgn val="ctr"/>
        <c:lblOffset val="100"/>
        <c:noMultiLvlLbl val="0"/>
      </c:catAx>
      <c:valAx>
        <c:axId val="174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70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995-4C36-4F61-ACFA-F025F0C4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10E-032C-4A60-BDBF-381E89CB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58E-E981-4031-94B2-D8CB4592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6D0-588D-4CAB-B96D-7834A5A2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045-9C93-4C4D-B957-96AAD940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32C-F20D-4C9E-9318-AF172685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A14-CEA2-418B-A8D7-49D93825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23A-32DA-4CEA-9E05-21213FF4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622-56A4-47A5-A3EF-F2E7C984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C17-F66B-4B3B-A31B-AE808FFF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459-5F4F-4F26-8796-415A264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FA8-7AD5-470E-B596-B9EC8124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C3E0C-B6A7-4F7C-94AD-DB938C79EC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