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65767"/>
        <c:axId val="96831955"/>
      </c:barChart>
      <c:catAx>
        <c:axId val="27165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31955"/>
        <c:crosses val="autoZero"/>
        <c:auto val="1"/>
        <c:lblAlgn val="ctr"/>
        <c:lblOffset val="100"/>
        <c:noMultiLvlLbl val="0"/>
      </c:catAx>
      <c:valAx>
        <c:axId val="9683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65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3D3-9455-4B37-A9E3-9FBCCAB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2CA-FCDD-473A-84A9-BACF674A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6E9-9F67-4AAE-B5F4-CC1BDEA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8BC-265F-41E7-B99B-CAFC1A9E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099-7174-455B-A400-008D1E5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0BD-D58D-4346-832F-057E4694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3DF-257C-4914-8C0C-E7288D9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E1C-E0F9-49B0-AB7B-E169598F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25F-248B-4B44-B570-C8D39F3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2F4-4215-4F7E-A941-3B8D61A1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CFD-7F93-4995-9878-E72DB3B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51A-FAED-40D9-9DA6-1B42B954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3ED15-B5B5-400E-89C8-960520BCF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