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84838"/>
        <c:axId val="4812660"/>
      </c:barChart>
      <c:catAx>
        <c:axId val="90584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2660"/>
        <c:crosses val="autoZero"/>
        <c:auto val="1"/>
        <c:lblAlgn val="ctr"/>
        <c:lblOffset val="100"/>
        <c:noMultiLvlLbl val="0"/>
      </c:catAx>
      <c:valAx>
        <c:axId val="4812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84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96E-2306-4DB0-A1FB-C55FB0A1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C3E-EF4A-44F2-AAE1-441F8836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22F-DBD6-4C2E-84E6-A67C1E53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531-AAFC-454F-AB98-ACC93910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549-443C-44FC-ABD2-41B1F4EA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882-25ED-4F10-97C0-4AFEAC5D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BB4-0E00-4643-BE86-4A9DE787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CF6-FE05-4231-9912-E6C0D346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EB3-C658-40AC-BE23-2A9E411B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A0D-95E3-4F1A-82F0-71F23FC7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AAA-CD87-451D-9B38-FEDD3E04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EB1-2801-44FF-A390-A403B2D9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58BD0-DBD2-404A-831E-548B74981C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