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19085"/>
        <c:axId val="3679428"/>
      </c:barChart>
      <c:catAx>
        <c:axId val="41919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9428"/>
        <c:crosses val="autoZero"/>
        <c:auto val="1"/>
        <c:lblAlgn val="ctr"/>
        <c:lblOffset val="100"/>
        <c:noMultiLvlLbl val="0"/>
      </c:catAx>
      <c:valAx>
        <c:axId val="3679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19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145-D8A4-4910-A3E5-CEA95D3D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75A-0408-47CF-9225-26BB3EBA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996-578E-4A71-8246-D3A220DB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924-2C13-4C3C-BB36-C71889E8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C5B-ACE4-4B9A-9C86-D4CA2711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C0B-671E-4A59-87D4-8BCE0FA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62D-B90B-4512-B5BA-5A4BB0D0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150-EA43-46E6-8B0F-2390CB4F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D5B-C8AB-4122-A694-5BACE6F6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65A-2B70-4998-9131-0CCFA7A4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7EC-1BF9-472E-97C9-CEF1A148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E3F-1659-436D-B725-A1F3ECF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D2273-E91C-42EF-A05F-D4F295FCBF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