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75145"/>
        <c:axId val="88286246"/>
      </c:barChart>
      <c:catAx>
        <c:axId val="35075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86246"/>
        <c:crosses val="autoZero"/>
        <c:auto val="1"/>
        <c:lblAlgn val="ctr"/>
        <c:lblOffset val="100"/>
        <c:noMultiLvlLbl val="0"/>
      </c:catAx>
      <c:valAx>
        <c:axId val="88286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75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8D6C-5E79-4A92-8A71-82B7778C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AA89-9349-4B16-83FB-CA86E83A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858-1583-4553-B3AD-26D2CA9A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719E-61D1-42B8-9D90-5DEDA98B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FEE3-72E0-4207-831E-B5DDB7FA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C325-AA7F-4DF5-A2D0-C07EF2D0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B41-4013-4C1C-BC1C-DE6DD852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FB1-321D-4AC8-A2CE-1EFB2D66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C25A-9002-4CEC-A845-952FFEF5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5303-A319-4E93-BD6D-7C35FDCF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3D3-F3E9-4A54-A090-10DA2543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5017-D6A2-43F9-B2E6-87B3ED6F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FF062-C76C-4D16-9D63-7169843827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