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687739"/>
        <c:axId val="30027990"/>
      </c:barChart>
      <c:catAx>
        <c:axId val="836877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27990"/>
        <c:crosses val="autoZero"/>
        <c:auto val="1"/>
        <c:lblAlgn val="ctr"/>
        <c:lblOffset val="100"/>
        <c:noMultiLvlLbl val="0"/>
      </c:catAx>
      <c:valAx>
        <c:axId val="300279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877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BD64-8490-492B-A338-0ABEFEA07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2D05-1FB0-4B54-8AA8-20554F41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808D-B09F-4E6B-A6A9-709D2B19D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847B-A927-4238-83C2-B17DBB83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51E9-70E9-45A3-A30B-768A6AD4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9E38-51E4-4FB7-95CD-40E78DF5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CCBC-4800-4705-866D-07F6CFDE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B0C3-8A3F-4521-8A5F-B7623396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64D2-6C8D-4863-B90B-2387491E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4838-3B84-4752-8FFD-D208CEE7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025B-2F16-4654-9C62-77CC4572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036D-D39E-422F-97C1-72418E36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B97E8-67F8-443C-A26E-7330D68266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