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60885"/>
        <c:axId val="24264615"/>
      </c:barChart>
      <c:catAx>
        <c:axId val="30260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64615"/>
        <c:crosses val="autoZero"/>
        <c:auto val="1"/>
        <c:lblAlgn val="ctr"/>
        <c:lblOffset val="100"/>
        <c:noMultiLvlLbl val="0"/>
      </c:catAx>
      <c:valAx>
        <c:axId val="242646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60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FFC-BC5F-4EFC-94C5-4E541AC8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9AD-F43D-4F83-A9EF-D5CEAD3F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15D5-34A9-4C6D-BA33-42AE8916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DC98-6C3C-4E5D-8D89-153C3F80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4709-12FE-4779-8039-DA763065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CFC-3BF7-4F37-BBF4-102DBB8E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75F-838E-41B4-8C09-2871434B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387-589B-4F9D-B121-C776CE56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442-95A6-4806-BE0A-7A8D810F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070-11D8-4266-A948-D6A7F8C1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0E8C-A421-471F-B78F-36B4D2B0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7C6-935D-416C-833B-E7EE001D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E6F49-EB7A-4711-B38B-502F03EC65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