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37752"/>
        <c:axId val="500879"/>
      </c:barChart>
      <c:catAx>
        <c:axId val="63737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879"/>
        <c:crosses val="autoZero"/>
        <c:auto val="1"/>
        <c:lblAlgn val="ctr"/>
        <c:lblOffset val="100"/>
        <c:noMultiLvlLbl val="0"/>
      </c:catAx>
      <c:valAx>
        <c:axId val="500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37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E91-EF37-4938-B4AD-EF699D00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60E-A8C3-4FC5-B938-52B6014D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7E3-2DBF-45EE-B747-4C6A02F8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38C-A7E0-4A38-919C-2E78461F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D29-72B2-4B7C-B94F-042F42F4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226-F829-4F4E-94DC-E7D6E347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19F-D9F3-448D-8E7A-7AD714DA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F5E-EB71-48F9-B6EA-AF5A2D49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220-1912-4EF1-8DAF-DA3D0EFA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89C-22F8-4952-849E-99F39DCA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9EA-5631-4D7A-AA83-CEB745B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2B2-D674-4E17-BD33-4D3C4DE4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17EC9-E50F-4F6C-8F92-44CEB3FA85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