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96020"/>
        <c:axId val="63958109"/>
      </c:barChart>
      <c:catAx>
        <c:axId val="57796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58109"/>
        <c:crosses val="autoZero"/>
        <c:auto val="1"/>
        <c:lblAlgn val="ctr"/>
        <c:lblOffset val="100"/>
        <c:noMultiLvlLbl val="0"/>
      </c:catAx>
      <c:valAx>
        <c:axId val="63958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6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EE7-0911-4FC6-AB6B-766B0A07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D10-871E-48F1-97EA-85E5D28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211-012F-487F-84A9-F7C6B315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27C-4CB9-47CA-B3BE-8ECB1C3F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0E5-2BBF-451D-A2D7-9982EC21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97D-3F0E-4EEA-B70D-CE82468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77C-92E3-4516-8D43-A361A72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7A9-3EDB-4A25-8DF8-5D9CC6C1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00B-8B07-401B-B279-F9244C51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0DA-E076-4F9E-B491-EB3543F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B13-0945-4E5F-B92F-E79E759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773-5FA9-47D9-ACF6-2962D37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65B6-B0FE-40AB-82C1-86851B990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