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2937"/>
        <c:axId val="39458069"/>
      </c:barChart>
      <c:catAx>
        <c:axId val="5652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8069"/>
        <c:crosses val="autoZero"/>
        <c:auto val="1"/>
        <c:lblAlgn val="ctr"/>
        <c:lblOffset val="100"/>
        <c:noMultiLvlLbl val="0"/>
      </c:catAx>
      <c:valAx>
        <c:axId val="39458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2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9F6-436E-4D6F-B69B-2BA849B3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1AB-67D9-4260-B25B-4884EA4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FAA-90BA-418A-89D6-18907E73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0A4-0901-4311-B7EC-046693B6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F8-8C36-4B82-8C11-0364FC4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EA3-0850-4687-AE53-FAD0B61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C9E-322C-4680-86C7-42DFF2A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4F8-FA68-42F1-B231-313C7FA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E73-1039-4ABB-B8B1-A783B4D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13C-505A-4432-AE78-1977CC8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551-B975-4725-BAAE-19DD146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DC1-7063-4A69-9BB8-B6EE683B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87CDE-8546-425E-981C-BFEDE0123C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