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00741"/>
        <c:axId val="70736109"/>
      </c:barChart>
      <c:catAx>
        <c:axId val="33900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6109"/>
        <c:crosses val="autoZero"/>
        <c:auto val="1"/>
        <c:lblAlgn val="ctr"/>
        <c:lblOffset val="100"/>
        <c:noMultiLvlLbl val="0"/>
      </c:catAx>
      <c:valAx>
        <c:axId val="70736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00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D65-FA52-47A1-99C7-D0B5C36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20F-7624-4130-92D5-DF959452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52B-84FE-4F26-A6F6-E9B87F95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02A-1ED1-4D2A-ACE2-899F8D2F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0DE-68E9-4407-9952-F0FFF2B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720-8E68-444E-AA03-9B9C321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010-ADCB-4E7D-AACA-F51A523A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BB5-3636-4793-89AC-CB79A600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052-12CB-479A-A243-D46B3BE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D60-75A3-4743-B392-5F0E8DE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1C8-DF54-4971-B239-BB57A42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11F-695F-48CF-A7DB-5970BFB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F984B-56EE-473C-85E7-379D1766E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