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83632"/>
        <c:axId val="62600677"/>
      </c:barChart>
      <c:catAx>
        <c:axId val="67083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00677"/>
        <c:crosses val="autoZero"/>
        <c:auto val="1"/>
        <c:lblAlgn val="ctr"/>
        <c:lblOffset val="100"/>
        <c:noMultiLvlLbl val="0"/>
      </c:catAx>
      <c:valAx>
        <c:axId val="62600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83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3B4-AAC5-4F59-B554-6D15F8B7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6BE-09CC-4D1B-B38F-A0BDFDAD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FF6-C79B-4E18-9B3B-5523E7F7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521-A651-4114-90F9-171C6607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730-DAFD-4185-B7E3-06C2D57C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A97-C19D-4AAB-8389-54F9A9E3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0DF-FABD-4EF5-8A49-021442B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596-978C-40D2-87A3-B5A5411C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FD5-B0E4-4882-ABE1-FCE5CD35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754-9383-46F7-B590-BAA4687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BFD-669E-47FA-94A7-DB565FE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CF4-8034-4443-BA51-E2A40DA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B311A-31A4-4E15-B61D-7C49741FAF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