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88298"/>
        <c:axId val="20991235"/>
      </c:barChart>
      <c:catAx>
        <c:axId val="36988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91235"/>
        <c:crosses val="autoZero"/>
        <c:auto val="1"/>
        <c:lblAlgn val="ctr"/>
        <c:lblOffset val="100"/>
        <c:noMultiLvlLbl val="0"/>
      </c:catAx>
      <c:valAx>
        <c:axId val="20991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88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1A7-75D4-4C3B-826F-88EC9F3B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389-60EC-4076-A33A-B735D888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789-4810-4C12-AC8B-8EA088C7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AF6-2702-4775-A02A-82E7A8A9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0D5-07CF-426B-94CE-1D2A527B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0B2-D7D3-45AA-B6A8-1D136787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0FC-F41D-4915-BB97-3038C0A1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68B-76E2-4FCC-A560-57E46421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D69-887E-4766-AF9E-8A2C5CE2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F57-A5AE-4884-B6B0-21F743A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800-AB3B-4601-8369-242E47E8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7D6-B990-494B-AEC8-C3C2D017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2EA36-6188-4793-AF54-A1C203CAB6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