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91483"/>
        <c:axId val="19150181"/>
      </c:barChart>
      <c:catAx>
        <c:axId val="62391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0181"/>
        <c:crosses val="autoZero"/>
        <c:auto val="1"/>
        <c:lblAlgn val="ctr"/>
        <c:lblOffset val="100"/>
        <c:noMultiLvlLbl val="0"/>
      </c:catAx>
      <c:valAx>
        <c:axId val="19150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91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BC4-A604-4AF2-9176-1C0B4D5E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593-57D5-4E07-9858-15F4F2F9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820-73C4-4DE4-97B3-CD7A3604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59D-07B5-43C0-9175-FE4DD5CE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9FF-5C7E-49C6-BC99-EECDC36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A41-722A-4297-A488-9816D3A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F70-20C8-4EEA-A099-EC2A653F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6C0-D648-4E47-BC13-967C668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CFC-3D36-42AB-915D-F9DBEA9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25A-A049-47C6-8AE9-ED02693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02C-F5A7-4FE2-A818-4FF37E5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499-FE60-4C10-BCBA-26596DE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832E9-FBC4-4B4D-8485-69D72940FF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