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81468"/>
        <c:axId val="24901473"/>
      </c:barChart>
      <c:catAx>
        <c:axId val="57081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01473"/>
        <c:crosses val="autoZero"/>
        <c:auto val="1"/>
        <c:lblAlgn val="ctr"/>
        <c:lblOffset val="100"/>
        <c:noMultiLvlLbl val="0"/>
      </c:catAx>
      <c:valAx>
        <c:axId val="24901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81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149-0930-458E-8FA5-79105B1F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0052-21DB-4AC8-B9D9-92336A6D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BB9-9430-41A2-9D35-3C0025E8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02B-9B48-4D75-8489-B6D4B6C6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6AC8-6EE5-42C5-83E3-F96A2C73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BC20-8EFB-48E4-ABDB-2594D93B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CD9-F3E3-4249-96FF-D92ADD94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4DB-DB5C-43EC-86C1-F4463882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D86-0CBA-4D39-9FFF-09226C17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12A-A13C-4247-BBDE-826BE628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48DE-404A-49EF-8B4F-9B2C30C7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71D-D762-4A3A-9859-0AA679FE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8EEAE-BEED-4B22-97CE-2F3A916C34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