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53786"/>
        <c:axId val="65583458"/>
      </c:barChart>
      <c:catAx>
        <c:axId val="498537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83458"/>
        <c:crosses val="autoZero"/>
        <c:auto val="1"/>
        <c:lblAlgn val="ctr"/>
        <c:lblOffset val="100"/>
        <c:noMultiLvlLbl val="0"/>
      </c:catAx>
      <c:valAx>
        <c:axId val="655834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537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F69-B785-4F81-A201-1930295C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0BFD-9A0F-4389-AEC5-369058C1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B2F0-E341-439C-B82A-C8FAF759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965-D2FF-4F23-9AB7-20A4FF6E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AE4A-70FA-4C81-80CD-6D0E164F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4185-24DE-40FF-9D67-C60E170F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431A-B49E-4D16-8472-E6DBC178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DB2-6471-4EDC-B8FF-BC7B3EE9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0B01-333A-43E4-847D-8FC57D38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3B6D-A3B7-4BA6-A774-3124A6B2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C15-6690-4661-9327-C344DB14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893-F59B-4574-BEF7-F29BA16D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B5603-E116-4918-A814-94D43DF9AC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