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43828"/>
        <c:axId val="51120913"/>
      </c:barChart>
      <c:catAx>
        <c:axId val="55343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20913"/>
        <c:crosses val="autoZero"/>
        <c:auto val="1"/>
        <c:lblAlgn val="ctr"/>
        <c:lblOffset val="100"/>
        <c:noMultiLvlLbl val="0"/>
      </c:catAx>
      <c:valAx>
        <c:axId val="51120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43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5F0-7079-461A-A2EE-2560A6C6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EA6-7065-4983-903A-3E3CA131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8EF-D80A-4613-979D-287E0B52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ED9-C914-48C6-A0A0-831275B3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A64-F4E1-4116-9168-D326E57B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E26-9A47-4074-8FFE-213604B8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2CE-6097-433E-84E1-CE56408F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972-98B3-45E9-A030-34440740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C91-6594-4FEF-9BF3-DB27A5DE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927-DEBB-4724-9382-727EDFBF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890-AA35-45D5-91E4-5E1605AA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FC6-82EB-49DE-B437-BAD95A1F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F25EA-A44F-42BA-B2AE-EAFBC71CB4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