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73101"/>
        <c:axId val="87057436"/>
      </c:barChart>
      <c:catAx>
        <c:axId val="17273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7436"/>
        <c:crosses val="autoZero"/>
        <c:auto val="1"/>
        <c:lblAlgn val="ctr"/>
        <c:lblOffset val="100"/>
        <c:noMultiLvlLbl val="0"/>
      </c:catAx>
      <c:valAx>
        <c:axId val="87057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73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39C-4D74-4280-8D83-8A9A4275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A19-A384-4501-A516-AAA6BF1A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DD6-6239-4E61-ABFF-5289ACBA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9FF-D171-484A-B3D7-5BA464D1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3FA-7805-48A7-BA22-2685DA0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78E-4D66-4B3C-902F-AA6C5E2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A24-1C17-4049-91E1-0645CBD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B4C-FDBC-46D5-9C31-00D525A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0F6-7256-4998-A4B2-B7DFD9E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C34-5347-497C-8B3D-DFBFD7B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B12-8CFB-4E8C-A708-8744730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70E-3E7B-42D5-8825-CB096F3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F64DF-CBDF-499D-A68B-A94479179A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