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99A44-A784-4B54-980D-D2B5995E4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BF56C-09BE-487B-A6F0-D55E21D88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E487B-D0CC-487B-AED4-4D91AF33E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71B6E-1F93-4944-B635-2FA3F43A5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30167-CF81-4B49-8A87-C237C0BA9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2AB9E-9E0C-4C78-A87B-A5BDAC813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8B70C-4248-49E2-9093-7EBDEB803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C5362-1CED-4838-B90C-DCEF3DA7A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02A6F-EA74-4EF1-BE54-7A969D976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C35AE-CE20-4CE4-8612-0983FE73A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570FB-9D49-4F6B-A051-CD3B64D41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A8EC3-0BBD-48F4-A756-39696AC90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49950-E759-4DFF-AD50-8A59B30A1874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hexagon">
            <a:avLst>
              <a:gd name="adj" fmla="val 50003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x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plus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r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pentag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gular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Folded Cor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miley 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donut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n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noSmoking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“No“ Symb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parallelogram">
            <a:avLst>
              <a:gd name="adj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arallel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lock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91640 w 7197480"/>
              <a:gd name="textAreaRight" fmla="*/ 5501160 w 7197480"/>
              <a:gd name="textAreaTop" fmla="*/ 423000 h 3598560"/>
              <a:gd name="textAreaBottom" fmla="*/ 2257200 h 35985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ightningBol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ightning Bo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M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-6838200" y="358920"/>
            <a:ext cx="14394240" cy="719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24080 w 7197480"/>
              <a:gd name="textAreaRight" fmla="*/ 6773400 w 7197480"/>
              <a:gd name="textAreaTop" fmla="*/ 424080 h 3598560"/>
              <a:gd name="textAreaBottom" fmla="*/ 3174480 h 3598560"/>
            </a:gdLst>
            <a:ahLst/>
            <a:rect l="textAreaLeft" t="textAreaTop" r="textAreaRight" b="textAreaBottom"/>
            <a:pathLst>
              <a:path w="432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9600" y="21600"/>
                </a:lnTo>
                <a:arcTo wR="3600" hR="3600" stAng="10800000" swAng="5400000"/>
                <a:lnTo>
                  <a:pt x="43200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la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115720 w 7197480"/>
              <a:gd name="textAreaRight" fmla="*/ 719784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582560 w 7197480"/>
              <a:gd name="textAreaRight" fmla="*/ 5614920 w 7197480"/>
              <a:gd name="textAreaTop" fmla="*/ 791280 h 3598560"/>
              <a:gd name="textAreaBottom" fmla="*/ 280728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Trapez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504828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598280 w 7197480"/>
              <a:gd name="textAreaRight" fmla="*/ 719784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259920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iam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ounded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Isosceles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22:04Z</dcterms:created>
  <dc:creator>tb121644</dc:creator>
  <dc:description/>
  <dc:language>en-US</dc:language>
  <cp:lastModifiedBy>tb121644</cp:lastModifiedBy>
  <dcterms:modified xsi:type="dcterms:W3CDTF">2005-05-25T09:56:44Z</dcterms:modified>
  <cp:revision>2</cp:revision>
  <dc:subject/>
  <dc:title>Slide 1</dc:title>
</cp:coreProperties>
</file>