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F66C-58A3-408C-9556-5F1FB3171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817F-2C64-483F-9F83-90E14D2F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F8E5A-7713-4FF1-99CB-37B9744D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325D4-22C6-41C9-AEA4-7FE0C32C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48292-65C3-4375-9D8F-6DF22B16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9C3E2-60CE-4E3C-A0DE-E4F74FF0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C5898-8014-44C7-A9FA-6F8EC0AB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11EB0-038F-4BB2-BC3F-69696A75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031B5-7499-4AF5-A914-3A19D7CA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FB78E-76CB-467F-87D8-E47134A3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EB21C-8A88-4B77-8D28-DA05F610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39E08F-CDF3-48E9-B6E5-EE5DF8DB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B45-9819-433C-9683-3FA137A0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452252-75FD-47A6-89AA-81B66A02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D45AD4-8E05-4FC1-8396-B856C20B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BDBE57-6D10-40D4-BD07-4325B5DF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8B9B90-32CF-49FC-B5C5-B9B05EF5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D19296-785D-4046-B26E-06F8C941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6B4730-5334-471D-AAC7-0B4A66D7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97F643-8E8A-4E77-9775-0AA87759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A1CE60-1A2B-4E00-8C20-E8108615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C0C671-E690-4273-8B38-78FE44F6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252B0C-1DC6-4DF1-8A32-16A7521C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1B9D-92B1-480F-B39F-AC09B98E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3248F0-6751-4017-9B38-0D939438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21B91-3FFE-40D1-A475-81C0A0E5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42D4C-CD7C-4EE0-8474-AE4787C0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1392B-E332-4988-808E-3823894F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D3639-F2D5-4CDB-A5CC-3D41E8CC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739A7-4680-4BBE-8ABD-69DEFB3D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A3CF7-AB8A-4FDB-A4C9-FAE30122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7C2C3-0826-4CFA-9089-BC9579F2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DA0C5-1501-489B-81C0-90F7F190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E9C87-0229-46E7-9972-939129EE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F491-A0EC-487D-B240-37012D20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684F4-088F-4D3A-A03B-18A15F6B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15FFA-5CA6-4E96-9478-5FE848A5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28876-81F8-46BA-9540-E9737D4C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2E925-934D-420C-8758-8791D1C5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0E8FC-D19F-49C7-81D9-4829350B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0169F-ECCF-40AB-93FD-E998F461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37A13-6904-4F21-B8B3-4F15BD3E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0CF96-8CA5-4DCC-A556-C4DBE603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A3B94-E551-44E8-AD4F-F718A024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EB386-A591-4854-BD53-56829F32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0443-4D5D-4EF4-8BCE-A207A206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57EE3-902E-4F57-ACF9-C25AE1EC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B544D-47AF-4AFF-83A5-462DA6EE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577F9-1480-4A13-B497-C695DA57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93106-C6EF-46F1-B84A-6F22D234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7D679-06E7-4684-B5A4-828D5D26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8133-55B6-485A-A158-CD415B3C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6E54-4F9E-4B53-849B-84D117B4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2B31-649F-4D95-A1B3-899BBF2E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D09D-1B50-43C1-B248-7030FE5D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B951-47A6-4F74-8A42-AFCAE235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929A-1042-45DE-AB3E-127CCE9A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16AC-A83B-4909-BFC2-A16D2C98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C5A2-E934-42DC-9E4F-9A12BD7F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AEF7-E2B7-4CFB-BFE4-17628784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29E6-8833-4AC3-AA95-C7753A71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1893-CD24-4C2A-BDED-D18E4FCB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92D24-D3CA-4401-AD91-53A745A6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42F93-F566-452A-9BD0-55733C4B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74E6D-9696-4A9D-AB0D-85996991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9476A-BC13-4995-AC77-47DDA1C4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8129D-CD78-47B8-BD07-11D82FC5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BADE-7850-4EEF-9AFE-09EF3253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9243E-FB93-46A2-9776-9FEDC86E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C67EB-0FD5-4B62-A56F-0FCB40EC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9B5CB-6F20-4C39-94F9-A5DE6D10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D042C-B9BE-46CD-9AAF-14F563D2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F6554-2E53-43F6-ADE5-6B6DC108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71F0E-EF57-43DB-B0B2-BBB4E159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4F75E-231C-4144-85E9-88C727D3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246FF-25EC-43CE-8C42-B90CD908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39FEB-D435-4B18-BB7D-BEA822F3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BD1E8-CE17-475C-A8C7-7222BDFD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7E75-CF96-44C7-BBCB-50B45371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8C1B5-38ED-4A56-A757-D27E9810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00449-DB53-44F6-BDC4-3728D363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C22C1-BEA4-4118-B3CC-78F97EF4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E8C19-5D1B-4917-9621-B570D606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FC12A-E884-419F-971A-56FC1AB9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0D272-D3C4-4185-84D9-F08D812A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C39C6-5B06-41F3-85D1-18E9E375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43EA6-773A-4D0D-A01C-F3900160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D3236-ABF0-4C40-AA33-8CE3FC29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4859E8-4B26-4CA7-AF20-5DAB294C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5AD5-2175-4C5F-80B8-2091D994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2F4B35-9B8D-4B32-9299-CD8DB669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035CA8-C1A7-4E65-A9A3-E6AC9E7C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FDB03A-931B-4844-9F97-39FE0F1F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16E061-493B-4521-AB22-132A0861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78F310-2EE1-461A-B0DC-BB6D4673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C88082-F9B1-49BA-98EB-27C51FB2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0D1560-3B5F-436E-BA05-0BE21A0E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27C1E2-31B8-41BA-A584-33886BE4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4F75A3-53C5-499B-91A7-E5672FA6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4EFF73-928E-433E-8801-ACA08B55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9EC-3DD1-489C-B64F-ACF0F914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3A774A-072B-4364-85FD-8C21CB5D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3AFC4-28B0-4ECE-9D5C-0B5FE2CF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1CF24-22A2-4D85-9C81-4B1C456D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EEA61-F7D0-4CDD-AE9D-08998B76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DE91A-7AE7-4122-850E-DB699FEC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9037E-E400-46C6-9EAC-7E0E19AE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F6B88-3551-4327-B88C-50510F60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553C3-C37E-4CB9-ACCC-6A2CB610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5B834-1172-478C-BC74-718ACB39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1B46D-4EDD-48D1-A150-605508FF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773E-7D75-4F17-ADDF-83C5D5FC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E2E55-6E3A-42D5-9246-1C0CE0D2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C88ED-9259-4CEE-B81C-48C050A7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B8767-F1D0-4C80-BD8B-75421180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757AD-6B21-40B7-8E1C-55A2AB24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15D56-C3A2-4C50-B337-9497B8E2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35229-6064-4D73-BA02-B9A127FF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27345-F877-4447-803A-EBB1EEE9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73FDA-2204-4102-91EC-D1F705B9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30F55-8871-4D29-B890-A1F6F81F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E4FAC-9A51-4A2E-A30E-2AA2384A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34BD-6203-4174-9C6C-CFAC146C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64979-C7BC-40D9-9142-3863AABC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0BE70-A933-46DE-B576-22C4A27A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6F53D-0C59-43A1-8FF4-E27D2D69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1E3D2-2967-4EDC-BBAC-74040026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22C74-6958-4F0C-8150-E506F780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E9BC0-997D-476A-888A-C4A5C75F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F5A5B-701D-4616-BDC0-D348F400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7D8E7-29AD-484D-ADAA-110FAC6E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6AC50-2953-42BD-8511-601A4D32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025E0-780A-4E5F-8F76-384648B4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1C2-E6D2-4579-B416-BD3D8627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189F5-5956-4CE5-8A91-8B8E2D68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E0C5C-FEB1-497D-9203-BD8A035B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50152-B41E-4601-9C80-1C1B02E0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16D69-0623-4FDC-AA54-54226B86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59BCA-B5E5-4594-AB09-245CAEA1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0A105-D4B7-422F-BF0B-C1740969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98328-489A-49D5-A0A4-530B3B2E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73CD5-4EB8-4877-9FAC-FEF4ED21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FC553-22C9-4590-8C42-A91610B1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5B405-04FA-4084-B843-7D50571C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8EF6-25FF-4C39-A3ED-EA91891665E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F678-9F7C-4B30-844F-9C9D899AC4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672C-28C1-400F-B001-4E75DCABE96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4F18-60B9-4597-8653-6632EC418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5918-9E5D-4EC0-A1E5-4E3ED31EE27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96C3-1C10-470C-8A56-ED331872F37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4BE4-4AB0-42C9-8298-287A36CDF4A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D2B0-A0FC-4CE5-A6F2-E58F6D94EDE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13ED-8F6A-4420-B5F3-D0D823A6192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92D3-D0A4-430B-B8ED-7CDEFF5232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87C2-44E2-489A-8E72-1FFD1A333E6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1D4E-12FA-4B3E-900B-6AD73B147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8FD4-D8DC-4FB7-A930-DCA89C997C1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341E-566B-49D7-B51F-1637D93F6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4D92-1179-4C03-932B-66C480D1A76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5C3D-DCEE-4912-9083-C40316F7D4F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B23E-7C0B-4C38-9D19-8FC5C342331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23CF-447B-476B-93C5-2A1698311EC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5829-F251-4A3F-8EA6-01E4FDE6451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0169-A756-410B-AC1E-BCB8433997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C136-A7EC-422C-A2AF-E5B1F6F677E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5D00-C5A1-4BDB-AF26-EDFC9CC016C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F23A-D44B-4841-911B-FC80A873103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79EA-DD67-4318-B85D-0C36D83D7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474E-9828-40B8-8606-D49955B825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7CE4E-3F76-4877-8439-B284C6938030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0EC93-71AF-408E-89DE-65597CCF1D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677D053A-BE3E-421B-AE65-80F600DDCA29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86488-A2F3-4217-9587-5E5EA6644743}" type="slidenum">
              <a:t>3</a:t>
            </a:fld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8A7771-D68D-4EDD-8294-F65CFADBC33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7E50F243-2B0E-47FE-B44A-284F6667EDA3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A5CF5-68B8-442D-8913-63845786B9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E2A9E0C5-D762-43EF-AA9D-A09D519C6472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B0872-3AD8-4C0E-BDF6-52DF754FBBE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2A12792D-DB90-47BA-B593-60C801922832}" type="datetime1">
              <a:rPr lang="en-US"/>
              <a:t>07/30/26</a:t>
            </a:fld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