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968-BBC0-4589-A5C5-01B361BA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0C6-1BC1-47DF-85E4-448DDBEB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89D31-562C-4431-90EE-FA5BFB2F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5DD6F-0E32-4493-8F24-52BF6CB7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B3587-C328-4EBB-823B-11ED3417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CB296-22A7-487D-A4E1-FD49EF77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918D0-F069-48C3-9A06-7CFF89EF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5ED47-2A86-44AA-BA2D-E61A76C9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1622F-2DE8-408B-B011-E28C9C43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B67AD-91D4-4418-A2EC-6A2BCFAB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0A257-7B6D-4043-8FAA-C619964F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5797B5-892B-42A7-84D8-DC6C24CF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370-DE26-454F-B3B9-C8EF19E1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4A86A7-D9EA-4196-9EC3-B03CE2FC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FBAAE9-8923-4605-B76B-268518B6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08F8D7-4754-4D6E-A3AA-4932EDF4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BA9861-6991-459A-B006-E50DD22D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60B968-3E21-44CC-93B5-2DC64A88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A2AC9B-D0C2-48E5-BB20-6547556F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7BDDAA-88C9-4D5C-BA46-C3F5FF20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007717-9E39-4755-A742-13DDF5F9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E1A7E5-2C3C-4A42-8B12-CE15DA95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CC94CF-0F0B-47AC-8F33-994B2F40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771-2C30-49B8-9B9F-61A8E015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A8EFCF-CA41-44E7-B75B-5512C15C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9B168-CD6D-43BB-A5E2-FB273F62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86DF3-D1A2-42EF-B9F5-043DB6BA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115D2-F88C-4F99-8FD5-26747B58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EF7AC-ADE2-4C16-92E0-3A703A36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81D1B-038C-455C-802D-54DB641C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2E189-F8AD-4BCE-BBF8-C8B7A2A5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AD90A-3041-4FDE-9CDE-4E60E131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37024-CDAD-444D-AEC4-FF9F2DB3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DFAE9-4EB8-4A3C-BBF7-6E72E963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B454-7EFC-45FA-9F8A-CC4AEAE5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9CA6A-674D-4BF7-B3BA-4F1A34B9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0C0FD-997B-4419-B800-12D31B9F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6DD17-B864-4E30-9BF2-9A3A911A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E6EFC-2042-4DDD-B7E7-1A7CE1AF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5B56D-48BE-478E-BBDB-DB68EA6D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9627C-E3A0-4FBF-BC72-9B135918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C0833-B7C7-4E0B-8307-1CD12B33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F4730-182B-4D6D-ACBC-0EDC6276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EE128-860D-447E-A100-25ACA68A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219CF-AA0E-49AA-8E5F-59764A80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4F74-2B44-43EA-B323-F7E80331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43262-A12C-49F8-BC82-5E7FD024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4F8B5-744A-4CD5-B52D-9F68661C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7DB72-9A51-479A-92EF-9666E58D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8C53E-7F12-4D3B-80A4-67FE27A6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EE2B1-020B-400E-A710-6AF229EC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C391-687F-4D24-8C48-C505380C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D1F2-E49C-4BB8-8A64-C5285BC3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9430-169D-4B7D-89DD-C9ACF230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89FD-8394-408D-83E5-AC663771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DF70-F994-4708-A8D1-023030C3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98A-3DDD-4310-850B-3A345144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9AB4-9496-47DF-8147-7D46C63A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ACF9-4798-47B9-A611-D407AF72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D8F4-2366-472E-A4C9-4FDEF33D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BD86-C78A-445F-8461-7523FBB7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BEFE-5452-4C8E-A74E-E5BA8704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4889-AF51-4708-AFCB-04D031E3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3644-4F4B-423B-B797-736D916F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6E39B-2722-41A0-8F23-56F38CC3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56528-CFEA-4762-ABE2-2688795F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C5D6-DE17-40B9-ADD4-3DCAA6B7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3B7-5767-4956-868D-BFC50B3E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2889-4243-44AC-8A42-017C7BF1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E76A0-1B66-4BAF-8564-A24BA5F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8512-83CA-42EC-A8B5-923F6565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3FE8C-2BB4-43BD-A203-3DD2A82B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05041-E27D-4F57-8173-8C3F799A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94CA-7C1B-4881-99F1-2A523D30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CF204-98F2-43DA-8D74-0FCEB460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59A16-9B8F-4ED7-AEC0-B8D44EFE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281D-05C4-4B95-8416-14A33BAA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D50BE-9537-4221-9C6A-B5B628CC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A70-2845-4FEB-B481-78CE928E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2FE78-CB90-483A-8705-83623725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03599-D534-4F4E-9920-29D6835C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FE743-0F8F-410C-923F-3B447E96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89AF-C985-4974-815E-8B524380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B69DC-3699-4D2E-8875-841B722A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97DE-EA07-48BE-B6A0-14360510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55758-FEDB-4D27-8FAA-540C4040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C8E64-1E1C-4167-A52D-F00B7C40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A404-DCED-45D7-8B2C-579A5AE4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6162A-CADC-46CD-8485-B932010D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33E-61DC-47B1-AA84-16E5F46D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58C58-A743-4F46-A619-9D1A3ADF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D379F3-F27A-4379-BFAB-3E1F35D5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A5577-A688-43F1-A319-75917ABC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94A0D-0921-4333-8FD1-ADDC996C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1470E-D7A0-4497-AB4F-6503C09F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5EE23-3162-40A3-A8F1-06DBCE2A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C1DE5-D160-4963-8DF4-FA54FC9E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88F87-5301-419A-8AAF-1CBCA337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6EC6A-E437-41BB-90E2-DBBF071C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45CFF-1BD2-4154-AC40-FDA70346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D7D-7953-4971-9649-37898612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EC0C6-B1FE-4394-AE89-60A0AEB5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5EA48-4F05-46A2-961B-073AC9C8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BC5A1-7E85-4490-905E-9A887B92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33EE6-A477-482A-802B-CAB8B29B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A9D11-782A-4571-8A15-18AC82B2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047F5-18DB-40FC-A8E8-D3AE3049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1AFBF-E759-47BC-8F1A-0517ADAE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38D7A-E15D-475E-BB6A-469320CB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D0F29-F026-417F-8280-23AE15BB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FBBF3-7B65-450E-8541-264C6581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F5E-D0AA-4812-AB2E-3C58CC83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7D48B-C43B-49DF-9188-F9E8F851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AB978-C10A-4FD1-A93E-03AB5F34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9FB32-95AC-455E-B6CC-562B42EC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8687B-5EE0-4A7D-8ADA-70DE79AC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D6F0A-D986-415D-AE9D-DE5F5EDA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D306A-B2FF-40DC-BDF5-E73699E9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633D0-E0DF-4A9F-9FDA-3C5E0218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5D0E3-F4E1-4F14-8655-9093E016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C5785-835E-4180-8D60-471DF1DD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6919A-C70E-4600-9199-0997A116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AF2-25A8-4DD0-9F83-809630CD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5C9F6-1DC1-4B04-9D82-187B8993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B731D-4286-4590-89A9-AA169BB2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E6AE0-2178-43B3-952A-25E6B41E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A4436-F168-4801-8E83-354C7E53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9D57D-9B00-4A8A-90DB-73DB0A1E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B6917-8120-4744-B687-443D1EC5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C9DFE-C92B-4FD9-A04D-63AF00A2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23EF9-00C8-4835-B49A-ACAB6B10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843B1-58BA-4BC3-A598-5C9F1AF2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A69C0-46D0-4713-9A2B-3361A5BF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F32-4A97-43B0-94BA-AAE96361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F3078-84F7-4AEB-B9F3-3C08091E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C067A-C050-4C6E-BABF-4E8D493E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EB0AC-0F17-4026-8187-131295DC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D6544-F439-4556-935E-A6EE50F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5D483-48E7-4AD8-AEDB-995AE2BB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99C26-0F2E-41E9-81A0-73B78218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A13FF-D0BA-42BB-8A9F-1E62153A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38006-C52E-4E2A-8495-38F3DA92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C3653-4D1C-4A69-B721-659D83FC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B16EA-9D85-43CC-8362-E8D5E80D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E822-9AC4-411C-A25C-12ABD248652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5EC5-DE29-437B-92AF-8C83D5A381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02A3-971A-41E5-A426-6EA7A70F3CB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D4E6-F76C-4EF6-BEB5-81E743763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0A7C-1A81-47F4-AC16-4F700339086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4077-C736-4C35-95D1-92D5AF19729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0C9F-A0DE-4A96-97ED-81ACBA5C4AD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21AD-C2BC-4EE1-8D29-8B58248DB12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E940-103F-4DC9-A6AB-3AE2B668961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8702-88E0-49C4-B6AC-D1F1ED0F72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0A5A-5AB8-44A0-A6A0-767EC818D7A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021D-BF9D-4234-A142-7D72B9A36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0A29-BAE2-4CF4-B661-CA23D57EEF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05CC-371E-40B8-9A51-EF958FE9B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BCA1-3CDD-4812-8106-88C0875A07F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9C5D-6434-49FF-A3A7-569E281E313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47C4-22A3-49F0-BFFA-567CFC3BEA9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7D8C-8EF3-4A67-BF56-2108F181F57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6AF5-8CC0-408E-9858-65DC913B8ED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4D18-7B9B-44A3-9898-9F7BC49761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B6CF-4F71-492D-A8A3-030EDE0B198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F5C5-46A6-4958-AD6E-CBCBBAF575C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9D47-5372-4085-BC4E-D12DBCECFF4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FA3F-F330-4455-98EC-0BDFAA395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720-C27C-4B80-AB40-326DF84DC1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6C0CB-7A12-4654-BB10-386BF2CD8CF2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A3C03-9B48-4250-975A-97DF0AF09E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653216E-F146-4CEC-8DE5-749D4354CA76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8FE09-7A53-414F-9E06-0E70E0723451}" type="slidenum">
              <a:t>3</a:t>
            </a:fld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FC177-45D2-4268-8175-A2E2ABC7231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F2F9A79-E9F2-4A12-80D7-E7CD51995E4B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3ED6F-494C-4917-8869-2F33FD70D7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E518858-74B7-4728-B490-D9F0AE18668F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63736-EC87-4F51-A51E-E7ACC307DC5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3CC2A27-B2B7-4265-A66E-DB39F4B7907C}" type="datetime1">
              <a:rPr lang="en-US"/>
              <a:t>07/28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