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3CE7-78F2-4C97-89C7-C94539458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652D-627B-4108-9B7E-4212AD1F4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9F68AB-DC18-45A5-8ADC-27A5492D0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4E3057-DAB6-47B3-80B8-1B0358242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1F5C7F-3296-4759-9034-D332B4675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C5BD7D-EFA3-459E-8BCD-527490BA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A48913-DD06-4EEC-B458-B41E290F8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A784D4-B7BF-4C23-B020-C2BCC6F5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4E47A4-4611-46D4-AE71-D59AA315E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8C1D60-AA2E-4263-9FF9-428B6318B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B7A150-CC95-4F8E-A355-5AF389C1B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B096D8C-BFAF-49CD-A06E-099ACE82F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21C5-E29F-4D14-98A8-04C4D9581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F0ECC66-7AB9-4B3D-8568-2F1CBF6D9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42203BA-B62A-4889-80FA-72BF522C7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AFDE948-71B6-491A-AD1F-35B42FB78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BCD89AA-45DB-45F4-93AF-949E74AEB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794148B-38A8-410C-86D0-DD840E4F1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4983127-E576-4F5B-8F4A-A94BB12E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9FB65CD-1392-4714-A842-79CCDE1C0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E14B394-1CAE-482B-8E7E-789ECAF81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17DBBE6-CCA0-4704-B8D3-37A2CA432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1FD3B0E-8A08-4F50-8A8D-E0C999BF3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9DEA-F8FA-4208-811C-D5093049F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DCAACE4-69CC-4EBB-AAE0-DA651865F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419318-5375-48E4-A2F6-F16BCDC0D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F720EB-CA6C-49A6-83BC-713A80384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2CA2C4-AD47-4251-BBBA-76E5B4F9E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91536F-D15E-4936-9ECD-CD270F781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94DBB0-0D9C-4739-A020-0E8AD7B91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BB963D-C1CA-42CA-AC7F-9192FC945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2358F2-DDCE-4615-A0B7-5590B52B2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9DE652-FD71-4081-A969-6E4784036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FE141C-0C16-4A33-ADCF-8658C3DDA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C057B-F73F-42E7-9190-71C25EEDE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31067D-C2D3-418F-A3C3-A2DBB6731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F24051-CBB1-43BC-9E65-59D7FCDFC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44E2F9-5BA9-45C1-9EFA-0DF933580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5AC3EB-DF28-4B10-A2FA-EFE3AE8A4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1772FD-5043-4136-B563-5821B125D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CF6456-2BE7-4EBB-B55C-BCAFF6D1B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5C2128-8106-4841-81E2-0EA0642C6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3AEDF0-FE90-428D-9F26-F39E378A2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1F243D-E18E-480E-BECE-5EFE3FF76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0EA202-C520-4370-8051-48B2FE70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3B800-9601-4B13-B19B-534C4E230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448AC1-5983-4D37-9126-674B3868E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8F7304-0AB2-4628-A3A5-96A7FE7A4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110C34-C3C8-4673-88EA-B2DCBC013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8C0434-3713-49AC-96EC-477ACF259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4D2FDE-B59D-43B6-87FA-8F0D2ABF2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4B337-7B13-4957-A29A-B8EA2904F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D99F5-DF1B-43D8-B65A-7F06987EA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F3311-6529-4CD2-B538-24AA25256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764F8-7991-46DA-AEAA-FC0C85FD4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AE4B0-EC8F-4B1A-8525-6EB338AC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2FF2-5631-4711-8B36-EFB324D03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B6BA2-36DF-4ED9-8ED2-2AB0191D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EFEE2-742D-4576-AC2F-D4FF31A90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68F77-D9F7-4382-A3DA-DC45E364E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88BD3-6C60-418E-B59F-8E98193B2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7974B-75A2-493A-968B-049888EF5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D533B-E31A-4D05-B8C6-16318F766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00D18-6C9D-455E-BD48-2067BF43D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6C401-C218-4910-8561-3BA06235E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71F64-53F1-467D-9A2E-19B1F2B0D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7EB18-A594-49CF-8C37-AA9AA30BC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3161-0790-465A-9D50-2907FBEBB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3A01F-2CF6-426A-A65F-0CEE46944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23F20-E809-4DD7-956E-7613C9647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0BA4A-48C5-412F-A824-5390531F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E69D3-2373-418D-A370-B64661C6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B39D5-8885-43AC-8CFC-A2A4BAD57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562A2-0B67-4023-A34B-FA8E35A96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866A9-FC6C-4576-92A5-495848ADF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92598-B86D-4D1B-BA7C-942BD265E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04B17-D31D-4681-B0D4-E2A0D1206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D1A58-ACDD-4A89-8464-8C04D0B70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89D4-6F04-4049-AF68-CC7E814A0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9031B-4065-4D62-A807-099C4D21A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9B9C1-748F-4F44-883F-7FA805B81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85A3F-10EF-4225-9488-DAAEA69F7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7D15A-0E61-4DF8-9EA6-6566F245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EF58A-AA7D-4CB9-AD09-7E2CE0E22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4C2C9-C12A-47F2-821D-DAD345CF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73059-01A4-4F56-977F-D1E707E31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88237-575C-4DF8-A82B-287F833C1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8AB21-E399-44D9-A7A5-3E5C6146C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9AFFF9-90DA-4405-8424-3FBDF04AB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0705-9A29-4511-BE5F-2990AEAF1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9FAC7A-8D37-4706-B4B4-77D96DA8B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F6FDBB-3A62-4D87-8403-1914C06AF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093D56-B33B-44C5-A9C3-54ABBADCF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F451E7-2CF7-49FE-99EB-5913A2BBF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7B3E94-BAF2-4FFC-937E-BE76AA584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939B91-59FF-4D0C-A629-BBB3BFB0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485CDE-885B-4C0D-A2CD-5E360DBB2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318F11-6913-4028-8B7A-85A70B71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D8C648-9F94-4671-B72D-919EEB169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B902A8-A294-4836-BDEA-C14EED644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0F70-DCA0-4C6F-9984-2E6D28D3A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5E4E52-A4E7-49F4-A9D9-8DCD87CDE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DB8BEF-48AD-49C7-9F17-55F0A5920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80F105-241C-4498-AA12-246DCA2EE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2F78A9-78F0-4279-A7F5-0600381AB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A4A0E5-E919-4587-AC2B-3FE4C425B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A6E6CE-91C8-4364-B0F0-67A6146E3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3F4006-612B-4DC4-A783-98D23D990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5BF6A9-3158-48FE-B8B9-4556561C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360783-8C9A-4285-9623-E30AD307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7923F-DC45-42D6-BE56-6B73B0C6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E33D-7F9D-4E5F-A079-7328C9CD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1C4B62-03ED-490B-A7B4-FD2EC7584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745465-4976-44A5-ABCA-76B081FEE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43ED8A-4C19-4F7C-9D74-4B4E6ABC9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003545-8594-48B2-B03F-E2B0EB53A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AE80A3-553E-44F5-B6D6-2BCB11D7E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F89B1A-45A0-49A3-9D98-EEEC1B4CD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E8BAC2-BFD0-4703-9270-AAA502CE0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74D8A6-B9A7-48A5-BE09-05BA50E05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191E4B-7CA2-47C9-9B58-E8A4DBCB9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F0E48A-249A-4FF6-A534-3E18C951E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3CA3-C6E3-4551-BA13-7587C8444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D0F179-659D-4ED6-A3AA-7D4CC36F2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E5FAD0-51E6-4151-81BE-C284DE12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A29517-2E18-42D9-9184-9D6754BFF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5773C6-0D58-4AF3-94A3-1F45BCF1B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090195-3E10-4CA6-97FB-2EEC03AB7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43B3A4-1B64-4B9C-A514-4EAC807E2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7E3C85-9B04-4ABE-BDD7-2C1F83DFF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F69B11-FD63-4052-A96A-591C4EA3E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08D76E-F993-4B96-A219-62048E6B4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5B58EE-44E1-4C06-8B5E-1C6683ED3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166E-3524-4AB2-9F9D-84784663C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C1F405-799D-4F90-914A-28D88D59C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E42C5B-DB69-4785-AEDF-CCA077C1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D6DBAE-7402-424E-92E2-10FA20628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1B2AE8-9ED1-4626-A3D8-9FF69A5B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C73BE6-5A09-4125-88A0-82B4C5EA4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1E8038-756C-4206-AF54-7FF0F190B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24274F-8F4F-4D93-BA0C-7CED74831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9B92A0-AF1E-451C-B8F5-B414A1296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31E12A-0862-4E4F-ADD2-6AD5605A8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597D79-6153-4AB7-A701-32C11480B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7C1CA-7492-4CBF-B567-1279F27BA84B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FC672-D25D-4A4D-9BE8-61F9A279B6C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3A631-8F3B-48C0-8A3B-3CE8CBCFFAE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149A6-C5F1-43C9-8BBE-DF427BAA57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B288C-6E43-4B5D-9480-9E631DA83476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928EA-D927-4DB9-8F02-EF9B353FD168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7CA8A-1E47-49E4-8A44-7D38562B837A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AB806-68A7-478C-A31D-6FE8A18ABEE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60CCC-DA9D-4D73-97EA-773435CEB814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71FEE-83BC-4362-8ADD-23E3664151D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DA765-A683-4FD1-903C-112CE176137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2D572-2CDB-4C80-B923-3360D2E90D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9BF29-811E-4D06-83E4-D8ED4FE8AA2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FB2D1-877C-469E-AE33-3A22AF9AC5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0C7B6-21B1-46A3-8C22-C84915FBF0C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5674F-28A1-459C-B845-00BA816B16CC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6D2A4-42C8-4BA6-AA9A-51B2BFF5230D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24843-DDDA-4CC8-8A3F-518AC912F37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C8F56-EDB0-4EBC-896C-050132F83569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8909A-CFAC-4C27-8812-7EF7800257A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0E4C5-A11E-49B6-9AFE-2BB743C63FFB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60AEC-A24B-4A39-B168-EFE3F526558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A7A6C-7022-44A6-893A-4CECA0FED9E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39719-376C-46D0-81AD-10BB116DF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FFBB-BB3E-4E7F-AEBE-AF4D9DB4675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F6AFEC-9764-4A10-B878-29ACE79F7308}" type="datetime1">
              <a:rPr lang="en-US"/>
              <a:t>07/28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DF6770-E426-478A-9512-B41ACCDD2AC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927235C7-4C98-41DD-B659-E5610040987E}" type="datetime1">
              <a:rPr lang="en-US"/>
              <a:t>07/28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4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2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2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" dur="2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9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140" dur="123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141" dur="123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142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143" dur="123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144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1C849-739F-4E3C-93C0-7613F55ED731}" type="slidenum">
              <a:t>3</a:t>
            </a:fld>
          </a:p>
        </p:txBody>
      </p:sp>
    </p:spTree>
  </p:cSld>
  <p:transition>
    <p:comb dir="horz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3000"/>
                            </p:stCondLst>
                            <p:childTnLst>
                              <p:par>
                                <p:cTn id="1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4000"/>
                            </p:stCondLst>
                            <p:childTnLst>
                              <p:par>
                                <p:cTn id="19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0"/>
                            </p:stCondLst>
                            <p:childTnLst>
                              <p:par>
                                <p:cTn id="1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31AD59-461F-47E3-B046-0C2307F60F8F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6E5F265D-3116-41C9-8F11-94EB176DBEF4}" type="datetime1">
              <a:rPr lang="en-US"/>
              <a:t>07/28/26</a:t>
            </a:fld>
          </a:p>
        </p:txBody>
      </p:sp>
    </p:spTree>
  </p:cSld>
  <p:transition>
    <p:wedge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1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5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8000"/>
                            </p:stCondLst>
                            <p:childTnLst>
                              <p:par>
                                <p:cTn id="22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9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5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7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9A0406-C119-40FD-9B7D-53C3B23315A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97F53C26-0368-4607-93BC-72D7F995A988}" type="datetime1">
              <a:rPr lang="en-US"/>
              <a:t>07/28/26</a:t>
            </a:fld>
          </a:p>
        </p:txBody>
      </p:sp>
    </p:spTree>
  </p:cSld>
  <p:transition>
    <p:wipe dir="d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3000"/>
                            </p:stCondLst>
                            <p:childTnLst>
                              <p:par>
                                <p:cTn id="28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4000"/>
                            </p:stCondLst>
                            <p:childTnLst>
                              <p:par>
                                <p:cTn id="29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0"/>
                            </p:stCondLst>
                            <p:childTnLst>
                              <p:par>
                                <p:cTn id="29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6000"/>
                            </p:stCondLst>
                            <p:childTnLst>
                              <p:par>
                                <p:cTn id="30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7000"/>
                            </p:stCondLst>
                            <p:childTnLst>
                              <p:par>
                                <p:cTn id="31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8000"/>
                            </p:stCondLst>
                            <p:childTnLst>
                              <p:par>
                                <p:cTn id="3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9000"/>
                            </p:stCondLst>
                            <p:childTnLst>
                              <p:par>
                                <p:cTn id="3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3000"/>
                            </p:stCondLst>
                            <p:childTnLst>
                              <p:par>
                                <p:cTn id="3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4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7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2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D1143B-25EF-4CEF-A4A1-FBA03FD6A8F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3C7072F3-8B23-4710-9ABF-E020FF003418}" type="datetime1">
              <a:rPr lang="en-US"/>
              <a:t>07/28/26</a:t>
            </a:fld>
          </a:p>
        </p:txBody>
      </p:sp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4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9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0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8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9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