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AC1B-6601-44DF-BED1-05305BA1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3065-4428-40CC-9279-DB19EF6E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BEB82-9315-41D5-83FA-20F17EC6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86717-867A-4850-8049-6F957F5C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32F3D-8811-47E5-99D0-6786ACB0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6973C-0496-484B-B6A3-93DB5AFF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C878F-1330-4845-820B-E35D2FDD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8D361-227D-448C-A6B5-1CAF523C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F31AF-A435-4348-8AFB-25CBF827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473E1-2E28-421A-A6F3-466A61F6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E6AE5-2084-44EC-8DF8-21429057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0AFBEE-2C12-452B-A9F1-E1D2E458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A40A-9747-42C5-B5E8-8E77585C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8D36CC-8E74-4AB2-8D02-233AC995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79A1E6-A372-45CD-A918-DB992656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136F36-5946-48F0-A4C5-B76EC095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5CF566-C411-4631-82BA-9F36A45D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725DF5-5E9C-4A9C-892B-5F6AB967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6D199F-EBD6-4E60-8CE6-7D173057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26EB64-79B3-4907-803C-F6B28CFF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42B59B-A283-4685-BB6A-9B90E3A8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9D415D-974A-48ED-912F-F4B11C9D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4DC64A-EF60-4EE2-BE21-29761B7F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13D-DDB4-4784-B37C-0AF1B531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21D860-E942-4D5F-9234-C0120FF4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4036D-72FC-4956-8E42-0288F519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63A58-300B-46B0-813D-F44CBDB7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96167-9EA0-4985-A556-DC059AC9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6E242-DA81-48AB-BB0C-82899152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54383-28FA-40A0-80B1-79BF4863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72B52-35DA-4A32-BAF8-556B7270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00D46-F4BB-48A1-B2E0-AC9A040F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2BC3D-0742-4734-B901-6C7851C8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BCAF7-0EB6-480D-8C02-55F53126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9EA8-2DA2-4358-8596-67782309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88815-304F-4A48-BC07-1C4BB583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86132-A309-4D8E-AC72-ABD6EC9D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DD8F0-6685-4CD8-A91D-A7E18495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1F9EB-38C0-4CC3-A3E0-B2AF7E41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BE54C-E8F7-489A-9BBD-8C3E93BB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20D37-AF40-4FC0-9701-AD244FD6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43BC0-6D3C-40D3-B246-04622F46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4E342-5E43-467F-8DE7-11A8C10F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0A7B3-80AC-42C2-9332-283389FB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0C799-528F-44CF-9A83-D620785E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345F-20FC-416D-9199-E81A7F4E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DE22B-1887-40D1-93D4-54F37DD1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282BD-6523-47E7-B3B8-DFD5C1D0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10A5E-C048-4DED-B674-37037005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E28E7-28AB-4599-BE2F-9C095141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C6617-898A-47E4-95FE-C51FF043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6213-268E-40E9-8C6C-F77797EB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129A-5858-4069-9237-2ED6FF44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3F23-DF02-4216-BCF0-4BF1243B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1C65-33CC-4D81-B5A0-3CF637D3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FE4D-D984-4725-B41C-0B29EDA9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6C1C-B994-49A4-AD83-61803EA4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CA6A-E719-4F51-9FC1-22553978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EAD6-896A-40D6-A69B-AD455F27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DD9A-32AC-43D9-A689-00344838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AC16-A005-45EE-8B0F-3EDB94B5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1A41-DF33-442B-8C7E-A61ABFF1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9C29C-63B2-4C51-90DD-BF6D6B19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971A5-D096-4D48-A931-1A7402F7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71EB0-A091-4DF2-93F5-5A14312B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E8163-5023-47D4-BF6B-EB07BC52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76F96-F2D9-4D6A-8BDF-405EB631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45F-AAE8-476E-A2B8-5C95E4AA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98C7A-9D79-4006-BC8C-7C1CCAFB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69D91-BBD7-49BD-8F3F-EF8CC3BB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4E407-5D86-43A8-896A-6139F8E0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FFA3C-F689-4429-B2C3-F6100B94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35C84-944E-4891-B5C9-07B746AB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34505-8640-4F1C-92DB-ED0AF88C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A23D0-2095-4555-8626-94497B45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82F03-1059-44BC-A54A-152AD844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268CA-E79B-4158-AD42-EFCBBA57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3D54B-EF86-40EF-88E0-D3A4FAB1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834-6A2F-42AE-8F73-05BDF356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93ECD-D139-4A66-AEDD-2590515B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A0FC1-1561-4802-BB20-79B1ABB6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9A0CA-12E5-4C4B-B4FB-305527F4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331A5-39A1-4FDC-9DB9-1D118DF7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44E20-B07F-4570-BEFF-B37536A1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77EA2-1FA0-40CD-BA1B-E95FAB80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F5005-CECD-44A7-BACA-C0275358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B1D68-FFB2-4A76-BD8F-81DFFB98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AF4CB-C37E-44D3-B225-20DD2B0D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128311-5893-41DC-87FF-8238F57D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A400-91E1-4761-9308-31B1F5D9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D9D094-F1D1-490B-8919-B3D6A138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85F245-3390-4213-A959-5C83B2F7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A4C01E-23B6-4042-AE5C-3FE555C6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15C05F-7844-4FA8-9F59-46CA3ADF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19705B-3D4E-451A-823C-59240C38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090637-33F8-416A-8D76-BBED9625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CE5159-6985-42AD-892D-6135D953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A6004C-ED96-4AA5-A166-FE722350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1686D9-A41E-4F69-BA66-A75CB692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E24E62-3D4C-4020-AF2E-F2771358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BEF4-BBF7-4FBF-B847-95290C1F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7ADD1D-7649-4296-8820-D40D2A60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BA2D4-A231-469F-A671-DEFF918E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22CA5-34B5-48CC-B6C6-0119BF09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500C0-DDA4-4A5D-9836-C561E31D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8FE83-2A52-4406-9F04-6143624F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F6CC7-631F-44B8-9F12-B568E9B8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B0DB7-9DD8-4504-BAE0-2EE308E7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209BA-67EB-44BB-8F79-F2A152EB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22B85-CC07-4503-859F-9198D169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725A4-8861-49F5-ADD8-37DC4780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411C-BE20-4C0B-B005-1EFC8B9F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325C4-73AF-4A53-ACFC-1A175DDF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BA05B-82B3-40B2-B391-D2E760DC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83077-C0FA-4E29-8AB8-8CD49930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80F76-5C3C-46A3-B3BC-165241A3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8B411-B1B4-4B9D-A108-73F15C0B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1AD75-6CE3-4101-B4D6-7D9F5B48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A171B-BEBF-467C-9B00-D62AB456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38539-1EBE-4D10-A2F4-782BCEE6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0BB4D-F442-456E-9C1C-70435A6E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ACC57-E2E0-41F4-8C9A-CF5C1899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4736-2178-44FB-A6A3-F7E68456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4EB35-8926-4FDB-AE28-6E8CA0F3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CBC97-D2F9-4A67-BD0F-B86B5F32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F2164-8916-470B-909F-751B356F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E348F-7C70-4FD5-8A64-5331E9D5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73FA6-2879-4F2E-B0CB-FA43BED0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40F08-0E01-4509-BF39-54D1E8DA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D4FFC-3B94-4D18-B718-EE335A14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D84C4-A45E-41DF-B076-D031B6BC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29AE2-6184-4E10-A7DF-CED2B8E8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CBE35-FA80-471E-9C5E-885AC84C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5AF-CC95-4DE4-A6B5-A2FC35CE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AE854-A5AD-4BCE-8F20-66CBFCFE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BF1BE-F84B-4CC8-A3B5-3039B899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788A7-179A-4141-8089-BE4995D2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7D969-053A-4F1F-9296-FC966793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759E3-8A64-47FE-BB46-22A98BC8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48B9E-7E43-45FA-9017-4CA159B0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15277-FF54-4C8A-8A4B-EE26394D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0A856-1EBF-4AB1-A0BA-9DA7154D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8A998-5748-48EF-BCD9-2EA38C23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759C9-9B74-42DA-A58A-66C7E3BE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10EC-6675-4CAF-9E50-F5E66128229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5362-11DB-46DE-AB09-40DB21A257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CC13-DF4C-45AC-B0C5-46165C87D0E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8647-B754-4DE3-B892-8E470F796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6BAC-75C1-4721-8224-0D409133EDA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072B-0FAD-4287-9AD6-E48C492A555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0034-E3DA-4F1C-B729-F0CD09D103B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BE69-79EC-47E1-BD16-81D8C69D2DA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1A20-5A7E-4B10-B0EE-3E131F669BE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E988-5192-4F64-98FB-D51415B7B5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0810-3870-4F03-B877-27A60B6D465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4B5D-45B1-445F-A839-57A9A0BCF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C527-1943-456C-989A-CF903280436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9D1A-BD2C-49AB-AD9C-D38F5CAA3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E07A-C6BB-43EF-97A7-C0084A52DF4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C775-E3F2-4C3B-9DE5-7086E5F0865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DB97-2AB0-4589-8004-C92B6DE9F3B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A3DE-23C6-482B-AD0E-069291A191D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7285-68D7-40BD-837D-EB1CC6D97E8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498F-A9F5-4A0D-9EF2-A5FFCDFDC8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BFD4-E308-4D3F-B406-1434EBF56B2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AAF2-612A-49E0-AEFA-F6570CEE68A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BC94-E93A-4F49-A2C8-46B574EC6A8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8DBA-E437-4031-864B-F96A8039F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C4F0-FE51-4164-9889-D93C7B9785D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CDCBE-9215-4B65-A363-A4C635ECBE5F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3814A-EF41-4D6A-9FA7-A099AFFF8E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F29635BE-3653-454D-8559-2BC4B30CD5E8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15" dur="1230" fill="hold"/>
                                        <p:tgtEl>
                                          <p:spTgt spid="119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16" dur="123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1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8" dur="123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1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1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2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39437-A869-4568-9F85-0287137AB117}" type="slidenum">
              <a:t>3</a:t>
            </a:fld>
          </a:p>
        </p:txBody>
      </p:sp>
    </p:spTree>
  </p:cSld>
  <p:transition>
    <p:comb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01048D-8C63-42C9-ACA6-EE2EB827B5E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800A1F2-42E8-4667-BFD4-9282AE2922B7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2173D-2BD4-40F9-9DC0-22CDA865CB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C156606D-4C4B-4AAE-BFBB-DA947E3D6D36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9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9A5F2-79F9-4A9C-8A31-A38412C1508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2688F1AF-75B6-42EE-A4B8-80808DE9637F}" type="datetime1">
              <a:rPr lang="en-US"/>
              <a:t>07/29/26</a:t>
            </a:fld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