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2B1-FAE7-49FB-AEBA-2FBE5EE2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341-5B4E-4ACE-B0F8-AA74ACF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E1C50-7B11-4289-8CBF-454D20F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0180B-C2BA-42BC-B861-0488F787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3DFC7-9BF3-4808-B6E2-CEA9A597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7103D-3156-4426-9718-435D993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C3F86-52BC-44DC-A923-00D9A3F1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8EAD1-B101-4630-A9B7-7CD0D54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AB653-A6BD-40AB-B17E-7319D9A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DAF32-F414-4438-A11E-9E890FAE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7A0D0-C347-4E71-A26D-392D8B68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EB9993-C162-4085-BA1B-24832C1A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F4E-906D-440E-A94C-CC776C92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9B9C17-664B-4AA5-A3B0-4676AB0F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A43FCC-D7C6-4E3D-9ED8-CE8C487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2833C9-9E46-47B4-989B-50C28F0B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82FD08-71FC-478D-A176-09B2CD96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3D5C9B-BA48-43CC-AA0E-18FBB44D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61E36D-D069-4F80-9031-894A317B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7704D-0A96-40C8-90AF-C42C447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A0DC73-307E-4D95-B2E5-CDD0354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CB1B2-5A6A-43CF-BF65-77CA12C7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870829-3EEB-4FB9-8B66-2384F8AB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8F2-83BE-4BF7-A2AF-8EBA90B5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D063EB-C5ED-4518-9647-F377B6C6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C026-E9DE-4D1C-8D3A-1DF7ED44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8349-7EDA-48D0-88C4-75AFBB1D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E67B4-1935-493C-8B06-E187A08D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E57E5-C2D3-4427-899F-52818346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739EA-2AFD-4320-9A6A-531709E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C19FD-3826-4B3E-AAAE-888ED462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F46A1-81CF-4388-9BD3-22FAE9B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A62A4-3652-44B2-841B-0212980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F7A75-E22F-4FF9-AC3D-990340B3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5F2F-76C0-47B4-B448-129C67FD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F989E-55DA-4BDD-B033-94A63F4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567B-5FFD-4428-A5E3-C5BA773C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91312-987E-4840-A256-0CEE4DAA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C6563-5C46-4685-ABC3-F9C4D9ED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E923B-B430-4228-BDD6-AAE2B9CC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04A83-FACB-4F86-9DA0-967B6EF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3EB60-8841-4F7A-A06E-8DB3775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85B5B-67D6-4E3C-A551-5B73FED8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2205A-888C-4326-8AD8-18FA4D1A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02547-9EA4-456A-AF2D-E349282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B771-8E78-468B-BF41-4666412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EB158-4103-4CE2-B669-3AFDDB6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D9355-244E-42FC-927F-FE6F218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BBAA0-A16C-48EE-B0A3-B3380EF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B96E2-8981-4734-BC4F-12451BBD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182FC-BF42-45E0-8882-C6F3B8C8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B725-91DE-4DB2-88CB-E1698B52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B170-D312-417C-B89A-81A9786E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CD3A-DE67-42EA-94A6-6566D08C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DD47-962B-4A03-8FEA-BBCCA8C6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26EA-9D89-45E2-BDE0-4F92245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90D-669C-449C-A57A-F00ED4D3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B7AD-F445-431B-96E8-3B7C9236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CCA3-87A3-4119-AE92-58EEE3A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8BD4-DB7D-48EE-AEEF-07FA5A11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6CA3-7533-4AC0-8581-84B486F4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25A9-5102-4671-B1D5-E1FFEE85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D1974-9FEB-4252-82E3-2123E2BE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38B4-073F-49D7-813B-074577A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7D48-F92F-43E0-97AD-6556350B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770D-5F77-421D-8103-57AAE11C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62F5-CA75-41DD-8347-5CB9C771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15E-8C72-49CC-B646-24B7598C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54DF-26F0-442C-9F69-407C6D5A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BF4C-EA80-4896-A4BC-4F0185D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4147-34F3-46CE-B9B6-9ABCC11B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8128-57E6-4211-9249-E473E40F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936E-5799-4D6F-81FE-6F9CDAC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41E3-DD32-427D-AC9F-5E64C271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7D26-3E96-450F-88A5-F4785D86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CB67-30F4-4407-9EDC-3F95C2AB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F1A0-1C2A-44FE-B2B2-E90E301B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16EE-88A3-4164-AADD-07068C6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8F1-C0C5-4CC5-A120-AADD568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74E3-9E11-4A0E-AC5B-43D460EF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303D-CEE6-4DD7-B5F4-26318D8A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3FB05-56E2-42FC-BA67-F40B29E5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3F459-415D-4B96-9183-297795E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F170-E4AD-4291-B132-53006D1B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15DB-CD63-460C-927A-115EA303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C7A4-3561-4F25-9F64-776E6468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8436-6DBE-4668-952D-7FC40DF4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7858-7F35-4052-936B-B685A38C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38FBB-0AEC-4954-BE58-E245DC70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F51-F5B2-4052-8F0A-3B05C441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E004E-77FF-4A25-8098-D75C9C7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9F67B-2690-4AB0-BB04-7D830933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1ABCA-08C2-4256-BEED-158196A3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807A5-4BE1-437D-BF64-A2DAD349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ADDDF-8D38-46A1-A847-27E7FC7B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E7D0A-9D05-403C-933F-B5363ED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693C2-A411-4796-A6CD-91D5FAC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598D0-93CD-442C-895A-EF174697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1F60D-1493-4580-A242-45C12059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94B66-FAC6-491A-B101-9239C4EF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B31-BBB1-4D2D-8704-F3A77AE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518A0-75EF-4FAB-8945-7B39D42C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D0A9D-1A1F-4D3C-8E5E-4A021D8A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29B5-5867-426A-A036-7AC42ED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D0335-068C-4FEF-9D28-38F54B6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286A3-F125-4147-AE60-0CA006DF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0D4C4-D815-4212-9FC2-DF22143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636C5-98DB-4AAC-AEA4-9E3515B2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FCF34-FB30-4483-96C5-4B09F97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8C36-62F5-4766-9319-0477A4D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57655-3CE9-4461-A8A7-37C20AF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62F-4949-4BCA-A253-491A746F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F5F04-78B5-4DBF-B80B-C1311D4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6FA6A-8FE1-4E9D-9490-DA65D341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79F23-1A47-4854-9ACC-25C171FA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635B7-1E50-45B3-8A3A-D6A5FA7E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7EAE-2DC7-4781-8226-DD386857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9613F-1932-4AC1-B5B3-FA3CE061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ABE50-54A4-4AAB-B57F-6AD38274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4EDD9-ED1F-4226-AC1A-97D8098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5FFD-109F-4BF6-ACE3-968B7B12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41898-FF75-4B21-AD41-2EE7390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A7E-3303-4AD3-9FB5-63FFF394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67766-CCF3-4933-8FAA-9DE09A3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EB68-94E2-462B-8B17-22315C2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3BB09-6CC3-4707-8546-9461228D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BA35-CAEA-4349-892D-08298BDA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58632-B19C-4CE1-83F8-FCFA6E66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3B8CA-E7C6-4FE3-A601-EDD73307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4F149-6B59-471D-B325-C240A369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FF196-6B86-4A19-9D5A-F29D80E2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9F90A-635E-4AEE-B7FF-97936C4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9F2C3-767F-4348-8DB8-454143E6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74E-2627-453A-A93A-26D53242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AF36F-54A4-410E-B826-72D2EAE4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05660-CF20-47FB-89C8-BA8721FD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E91D1-7C34-4F29-AC10-F5C45A8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1C9E3-97E6-42CB-9984-6D8035F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F463-D879-4A05-8D28-53DC706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BDE7-256C-41B6-9541-04EE9318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01447-654B-42C7-AD23-A248B623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7377A-7DC6-4CC1-8797-87E4AF83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7335F-4E18-42B7-B3D0-2BA0FCC9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F9BA2-5C8C-424A-B685-FE7CD862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23A7-09CD-42B4-9141-92495B5AA88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C1EA-41BE-46BC-9506-ECC9874CB6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E39-1D31-4B2D-8F21-9B0BE000E9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689E-CABF-491E-AA18-BA5614D6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2D3-5709-4796-BCAD-43169F46F89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CED-9EA7-4B36-A85E-626F09734E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304D-F982-44C6-9CA6-0FB2CA76881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F4A5-D8D4-4364-AF4A-A55B9B36F0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5D1A-F284-48DB-B5AD-930114C8886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C00E-33CA-4BA7-8363-67C15D5433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40EA-37D0-4BF2-B03C-32AC67DC7E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1183-F6D2-47CE-84A7-736F4A76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210-FD26-4435-8F46-DAF0AC6650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EDEF-8D0C-4996-9912-E362C452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C730-2AAE-48D6-A56F-E62FDEAAB7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3220-1DA7-4105-837B-B6EC16D04A1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3EF6-EE06-4144-B256-118E1F8D332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ED6-A555-4E9C-AA71-C147F868D6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307-1892-4078-A275-988268C23CC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2AB6-EF67-4FB9-8F88-79775891EB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02CB-8893-4922-ABF6-109AA6C768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595-EFEB-4DC5-9A5B-78C4C0A190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E664-4CDB-4643-ACF9-7085BC7371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E4B-FEA6-4730-9275-11CAD1F5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61D-B574-474C-8774-46745D1E58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04A36-422A-41B5-BC6C-90CFD39BE5D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D020D-5673-4A2B-80AA-3ACF28691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58399CB-BD84-4ED9-B3A7-E0AADAB68474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7616-F724-4B5C-8915-C1A847DA09F5}" type="slidenum">
              <a:t>3</a:t>
            </a:fld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DF05B-E08D-438D-B749-92AB825217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3AE9C49-4DB3-4E4F-9377-2CD920E645D1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8F63C-9A69-46D6-BC5C-5D4ADECE49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223F818-DD4C-491C-BA77-B7589D81E467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6BFBA-304F-497A-BB0F-3165FC4B32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6BA37AD-BD10-4289-A8AC-3E987702C76C}" type="datetime1">
              <a:rPr lang="en-US"/>
              <a:t>07/29/26</a:t>
            </a:fld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