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D21-D037-4BBB-B5FB-D2FCF189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576-562E-4DD0-A744-E40D3779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D41A8-B230-45A0-8FA9-6637DBE3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77AFD-4E80-4470-89B2-4E4F7B54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1E7AF-86B6-4322-BE9E-26512688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796D3-3191-432E-8D3D-D0ED6537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19FAE-A991-4047-ACB2-1EF7F3E0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31B94-F1B3-479B-9733-97D664DD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943EF-6402-4C7B-A0C0-30C5B614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94B67-B213-49F7-85DB-8ECC8DC6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E9EE8-BA7A-42D6-9988-964B34A3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293A84-AC17-4E0C-9710-143CFB78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B24-BA71-4234-B53C-13BCCA01C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9F86FE-13C3-4DF6-9382-6B18F976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7455A6-750C-4C24-93E5-909A9C55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655764-42A8-47FC-BCBA-5A3FC26B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0D413E-50E0-40EC-AF54-41CD02D9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4F0B69-F653-476A-B873-DA1BAC8D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C93536-932F-4364-A103-0D004C60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9C6240-1284-4A95-874C-4E040C37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86E7B4-9795-4C37-9E23-3BF76718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E8054D-9549-4120-B9F2-8DBA4C62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C65E0A-1D95-458D-958A-17BF98FB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B47-8497-46EA-ADEB-D91556BE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C9C6E1-E2EB-4C7D-8DAF-225838FB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62C4F-6273-47BC-B402-5D2050EC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4F0A5-C1E4-4F4B-BBF7-FA5A032F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47FD9-B612-4728-8E8A-443A3804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6080A-1226-4295-998A-8457FA07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55810-D9BA-4206-B13F-CE7EEFE2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36EA9-A642-4BFA-AF6F-B5593341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B9958-53A7-4C71-A757-023E17DB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18945-A915-4AE3-ADF9-2F78187C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15263-4CF6-4A53-941F-0913731A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A1C1-2459-4583-B703-7249426B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18EDE-1A7A-4273-858D-BE943127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CE3B8-8CE6-46B9-9A53-E566FD8D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F8AEB-09AF-47B7-B626-29B8C0EE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CF32B-0561-4C29-82F7-ED15F530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1363D-8E8E-4F76-BF61-5CDFA023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BE52C-250F-48DE-9B8B-EF82C160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7BD09-725B-42E7-A259-C553226B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5AA45-D6B7-4EB2-BDCB-849E2AD6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52BA0-F82D-4FA8-9E7B-DBA15941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315B8-F887-4B49-8BCE-643AFE3C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59F8-CADB-490D-89FF-16273F0B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99FA6-3E83-4664-860C-51A3C48E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AEB6E-5E09-47B4-8704-838AF9D6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F1F16-6CE2-4F06-A52F-966CB951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42E3B-27AB-47B1-A6A2-2D75A002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38F89-26C8-47A8-8A81-9BFEB77D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27C3-5334-48D1-A01F-C9DB898E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E306-DD92-4623-B1B9-860E7894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17B9-833B-404A-8A9D-766C4357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A5C6-F04C-449B-B5EF-2C2706D7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4496-D79F-423E-8EC3-DD4D21B1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D3A-8786-4FDF-A0A5-963C5393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1D6A-CC62-4F2E-8C1F-A4D8FAB2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8CD2-0CC3-4B49-8587-CA809CB4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9200-48B3-4B5A-A066-CA82CF81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40DB-0278-40D8-97A1-076DCA55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757E-06EB-4CE4-9E36-E9DC1BC7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C6C94-426A-4A6A-B801-FCE84705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06B3E-141D-48D1-BBA9-B3088128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420B4-6307-4447-B2C5-322C165F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8E7D8-1385-4D97-96A1-121066A5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40E88-AA1B-40EA-BD3C-9260B803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9D1-1A4F-4576-A75C-97FDC0DB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61B9-2FBD-407D-A4C2-CE90DDAF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5DCE2-A1A3-408F-AE96-E04B3FB6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BB472-DAF2-4EC5-9C0D-DD8BE81A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7CA16-75F1-4032-8395-5FE1C5DB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81B37-77D6-411D-B525-0A4BC159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DEDAA-1563-4EDA-A2C7-DC68BF87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A51E-7214-4046-AB47-48BC72F9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5B69F-44B8-4455-86A8-89B9DD05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D760E-CCE7-461E-8A39-FFB2613C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44A2F-08CE-4FC7-B5EC-535523F4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FB3-EE9B-4E6F-BFEC-9999E229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E9C1B-E964-4FF3-BE7A-A5E36103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8809C-62F7-4978-A91B-7ED2730A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98159-6026-43CF-8E16-77C07A66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FA037-6646-40F3-9A54-71F1866F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49341-9469-44B0-971D-944510D5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12FFE-2129-49ED-9A20-779608A4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D9514-6350-4B10-89E0-CFC5FEFE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F6DA2-5CBB-4747-A72C-A830EF36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6C4BA-3CE5-437B-BEE9-07CA0190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BEE13F-919A-4686-8851-F5CCB3F4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87E-6178-4F8D-AD2C-8C7DAD02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0C631-E02B-4AD8-81A6-438FAAA6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6049D0-6A26-4CC3-AB55-A186F315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D32F7-95C0-4694-9BCE-FEE0BB13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AA752-2B5A-47EA-A3BE-589EFDB8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871BD-15FB-475C-B764-06B34BFB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E379A-8C62-43E8-A7C9-DFEADA66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71859-1D65-45AA-B4AE-3053C59C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F27B5-D3B6-42CF-9F6E-EE147615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05621-85F6-4C45-9C11-3642F5C2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DFA5F-1089-46EE-B35B-720A3A44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D10-7D59-403D-9C8B-05EB2C29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B0035-42EF-4ED9-9283-FBFE4D4D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FDAC8-48E9-4009-9E3F-9DB369AF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B78C4-BF91-42E2-ACA7-40F553E8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006AC-80CF-4B78-976E-3845A996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DBC67-B7EB-4912-8F15-DE6615A5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1F100-ABA6-41DE-A6F9-66490A88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6E90A-1296-44D9-9F95-7A53F189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AA92C-9C0F-497C-9746-3F6FF2FB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79CA2-27DF-4099-903B-958CEDE5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E7827-93E4-47CC-9AA9-05433BB8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E3E-F150-49C8-A827-8B8BA59E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13878-F249-4E1A-A4C9-1C64E1DE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B11FB-D59A-4288-8B00-F618511A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5DFBF-B8AD-4D21-8098-68EAEB60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ADF4A-9258-4E7E-996F-AF2E6ED2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0DDFE-AE94-43E3-93A5-863AA213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C492C-02CF-4796-AB06-B09FE028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1023D-6B96-458A-865F-CDC8EFE4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0CA63-2311-43E1-B083-E1BDA8D2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4538D-52E6-4373-A5D6-33D12402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5514E-960B-4435-96BA-61AC7BA9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750-6368-47AF-BF65-EEE92678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3077F-1DCD-4F08-8D6D-110D08A6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92AB7-7F34-4AFA-A7BC-A65DACB3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A17B3-A808-4E99-A4B8-9015425F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1FE3A-B021-4D81-8CA5-1BC2B1F7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DA4AF-B2F2-492A-89FD-B82122F8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32C32-7938-4490-877D-544CFB47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59906-6C60-4F47-9798-460F3D0C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B0EEA-EE07-4C69-BA95-3D05C68F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61343-D01A-4B69-880D-201CF40C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E6D52-F38E-4EB4-9964-F3AEC1FD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723-F2FB-4573-995B-EDB4E25B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E65C9-9B04-4947-8A50-F08612CF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E5A85-91C2-41CF-ADA4-57802DC9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F7B0C-4CE7-4530-B4E3-561F8398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B0F58-EDA6-46D5-BE01-9CA796C6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F79C1-F703-4DF5-9645-A1F092ED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B2BDA-4126-4B62-BBF2-CADC9F34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B0278-E46B-4393-90F4-66628E85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D7468-76B1-4743-B032-9EC3BEDC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6CE3A-A15F-4929-8000-F5231C2B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3F20F-D99E-4930-93A3-479C1E38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FE55-B838-4B03-A134-DD5FB0FF696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DE47-3982-4BA2-B47B-007191471F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52C7-B985-4864-9A9A-3AE8E43A820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8919-AD16-4FF2-BA87-8EE07D60E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1FE6-8A6D-4ABC-8277-45D789643CC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D306-3A32-440F-9B17-16FC4DB566D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0C06-9539-49D9-A118-CC83FD6142A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D1EC-F63F-4F09-8DF5-2EF478A3952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E1C9-D87A-467C-8688-964F6E53FFA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8E71-F104-42FD-B1E5-7241A94DF59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6959-DE0C-453A-B89F-D44F9776DE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5144-21F8-4A8E-A9FA-C12C92E86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0C37-F18D-443C-B5F1-987DA746DA1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48DE-4023-4BC9-B592-9356F2BC7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DAB3-0F31-4B83-811A-D4B114EC7A0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0D5B-ABE3-4983-9905-08251DFA975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0E56-4756-4B62-AE24-C1E0A240E89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9E60-D020-4811-BFB7-95325CA882B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181F-C045-4691-B1C5-5A2B9FA5ECC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93A7-5C37-44D8-A820-FBB4C90AED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6B53-86AE-47A0-81A5-2F7C4B5855E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F7C2-C6A9-4DF1-B946-16613AC8B67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7A0F-3ADC-4919-8B2A-71D1357B066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8717-E4CA-452C-9BFC-B0EA637E6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CBF-45E0-4DFA-8328-109E535E23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87BDD-649D-4853-98B2-AD57A4DEDC17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AD272-A749-41B7-987A-B39D0C8197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7DA0233-0960-4E0C-A521-997A736BF7C7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192B-70A9-4A02-8EC7-485D8BB14B6F}" type="slidenum">
              <a:t>3</a:t>
            </a:fld>
          </a:p>
        </p:txBody>
      </p:sp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9927C-36ED-4C94-851D-A05A58BD068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5AB05B9-721F-4FF2-B2B4-B68DC578983D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F3040-9910-445B-B404-4E83B6A8BA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02DFC7F-9FEE-4ED9-928B-CBAEE27FF7FB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2CDD6-5D3B-4AF8-9307-5F8B88CC4B7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DEDFD45-FA21-4FEC-90D0-6FEDCBF77CE9}" type="datetime1">
              <a:rPr lang="en-US"/>
              <a:t>07/28/26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